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5FD-92EE-4E3C-920B-07121F41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B44-4DB9-40D0-AC2B-57FB1E2B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96C-6226-43C4-B0E1-F0F0679C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1CFE-8383-4DF5-93A1-B35BA060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F6AF-C08F-4F69-9C3C-EE71371C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566D-1E31-4BF5-B846-195F4D9F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5B75-7552-466B-B70B-F1638FD4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BE43-196B-4B15-A74B-DCACFE3D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7245-54FD-418E-92CA-471BFC63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B006-7D2B-4E59-8108-A75AB01C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D4DF-3728-460C-9195-4519CDAB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352-F89A-436F-83B2-B8876D77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2999-46AE-49B7-BCBF-92EEA314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F10E-9E92-4BFB-B4EB-20B7E7C4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05EF-CA9C-4B85-B331-6592BA92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C811-BA77-462F-9719-CF90E15E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7AA7-C245-4205-946C-E859881D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445-F6C3-4064-A7C1-49F67985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4D1-B179-4844-9BFD-D955BFDA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FBF-7B1B-400D-A17B-CA44B15D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63C4-8545-49CB-90AC-48125801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15C-8F0B-4639-BAF5-C57A72E4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6E5-760C-432D-A510-8CAC9B13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0CB-3D10-41DE-A659-9A4893E1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0056-E734-4A1E-9C5E-7AC815A134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2B6B-9124-40C0-BD5B-FDCC930E47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68360" y="404640"/>
            <a:ext cx="5478480" cy="11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washshaha  VI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o vale nada que tenga bue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intencion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si bay ojos tan gach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 disim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o que ha de hacerse du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n todo ca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bien celaré mi angust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ólo me de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i amor un alma mu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triste, apag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¿Viste al que el miedo sobrecog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o al ave en sus temo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35280" y="620640"/>
            <a:ext cx="302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0"/>
            <a:ext cx="4413600" cy="10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 pecho hi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uando el deseo arrecia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¿Por qué estas an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o acaban y no ces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¡Ay del coper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así mi muerte anhela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Vino prepar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el corazón dentro se esconde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e dispara arp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 gloria goza con 'Ali Ab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mi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onde cumpl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halla el honor real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 mis dese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an alas sus bon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is esperan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se logran gracias a señ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que son de luz. fulg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69720" y="762120"/>
            <a:ext cx="3466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 su belle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 alba mayor brill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 da su gen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jor perfume al vi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 una estr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ue guía al peregrin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eón que espa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a mala suerte, que a sus  v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lena de miedo cor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39220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20920" y="105084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94000" y="1050840"/>
            <a:ext cx="5740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e  adorna el 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an pronto lo contemp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onor no exis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tanto resplandez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nta, embrujada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h gloria- con sus prend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EN YA SAHHARA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ALBA Q’ESTA KON BEL FOG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KAND BENE BID AM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VEN OH HECHIC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UN ALBA QUE TIENE TAN HERMOSO FULG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CUANDO VIENE PIDE AM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2:17:25Z</dcterms:created>
  <dc:creator> </dc:creator>
  <dc:description/>
  <dc:language>en-US</dc:language>
  <cp:lastModifiedBy> </cp:lastModifiedBy>
  <dcterms:modified xsi:type="dcterms:W3CDTF">2007-09-29T02:43:49Z</dcterms:modified>
  <cp:revision>5</cp:revision>
  <dc:subject/>
  <dc:title>Diapositiva 1</dc:title>
</cp:coreProperties>
</file>